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66E-2521-4A67-BBBE-E8361945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441-D8FD-4466-9379-A582DBD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854-08D5-4082-BAF5-42DE48A6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F07-7F20-420C-9CD7-2E7C1EB3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99A-0351-4C7C-96F2-3078409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774-9DCA-43E1-8309-88530C4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585-806C-4564-8100-BFABB14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4D0-77B4-482F-B8EB-CBF723A7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98B-1D0E-4961-9872-A7FB0643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A7D-7868-4ABE-9040-BEC6079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03E-74CB-4D1C-AA32-AD89BA88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877-EAA3-4C35-9B42-F89D16C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CA7-AEB8-469B-91FE-B96952B9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onstitutioncenter.org/timeline/flash/assets/asset_upload_file562_12288.jpg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pbs.org/wnet/supremecourt/timeline/images/timeline_pic17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illofrightsinstitute.org/.../cartoon3.jpg%20.%205/24/1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uropeancourier.org/images/Mapp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arre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4-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Rebecc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 v Vitale (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blic school in Hyde Park, NY required all kids to recite daily in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61722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prayer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nstitutioncenter.org/timeline/flash/assets/asset_upload_file562_12288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819520"/>
            <a:ext cx="5105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ighty God, we acknowledge our dependence upon Thee, and we beg Thy blessings upon us, our parents, our teachers and our country. Am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 Arizona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 Ernesto Miranda arrested for suspected kidnapping and rape of an 18-year-o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64080" cy="2981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609588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nda 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bs.org/wnet/supremecourt/timeline/images/timeline_pic17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971800"/>
            <a:ext cx="556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igned a confession after 2 hours of con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19112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 was informed of right to remain silent or right to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257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aur"/>
              </a:rPr>
              <a:t>Chief Justice Earl Warr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Justice for 16 years (1954-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ren  painting (online image) available http://www.google.com/imgres?imgurl=http://www.supremecourthistory.org/history/images/014_warren.jpg&amp;imgrefurl=http://www.supremecourthistory.org/history/supremecourthistory_history_chief_014warren.htm&amp;usg=__Es9sWPmj8ydKsZBAuFNYeep4ICc=&amp;h=400&amp;w=310&amp;sz=22&amp;hl=en&amp;start=1&amp;sig2=xlJeBFZ6d6NeOJb_tQivSg&amp;itbs=1&amp;tbnid=g6EoO03mVyCwXM:&amp;tbnh=124&amp;tbnw=96&amp;prev=/images%3Fq%3Dearl%2Bwarren%26hl%3Den%26gbv%3D2%26tbs%3Disch:1&amp;ei=tLr5S_r8M8T7lwf_ytDLC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572000"/>
            <a:ext cx="6248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chief justice voted liberally 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ivil rights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505320"/>
            <a:ext cx="5790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efforts to make CA’s state assembly more representative of it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59092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for Japanese Internment as Attorney General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81080"/>
            <a:ext cx="7924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had negative civil rights re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Linda Brown walked 6 blocks to ride catch a bus to her segregated school 1 mil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665200">
            <a:off x="1828800" y="4723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l white school was 7 blocks from her house but she was not allowed to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71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aur"/>
              </a:rPr>
              <a:t>Brown vs. Board of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477120"/>
            <a:ext cx="891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well painting (online image) available http://www.learntoquestion.com/resources/database/archives/Norman%20Rockwell,%20the%20Problem%20we%20all%20live%20with.jpg.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006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68580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urned Plessy v Fergusson and the idea of separate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1 Gideon stole $5 in change (from a jukebox) and some alcohol from a pool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n’t afford a lawyer &amp; Florida did not prov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d to 5 years in jail, but researched legal rights and petitioned on prison note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267080"/>
            <a:ext cx="79250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00400"/>
            <a:ext cx="79246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867280"/>
            <a:ext cx="79250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cartoon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llofrightsinstitute.org/.../cartoon3.jpg . 5/24/10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deon (online image) available http://www.pbs.org/wnet/supremecourt/rights/images/gideon.jpg 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tition (online image) available http://www.ocpd.state.ct.us/images/Gideon%20Petition.gif 5/23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43340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828800"/>
            <a:ext cx="6629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057400" y="609480"/>
            <a:ext cx="4718160" cy="5286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1143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nd 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distr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votes eq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838080" y="2666880"/>
            <a:ext cx="792504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001960" y="26668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371600" y="31240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7180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6668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886200" y="2666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495680" y="37339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1722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410080" y="38098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1905120" y="36576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5562720" y="27432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64008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7162920" y="28195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7772400" y="2514600"/>
            <a:ext cx="47484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588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172200"/>
            <a:ext cx="7924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nessee (online image) available http://nationalatlas.gov/printable/images/preview/congdist/pagecgd109_tn2.gif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72" t="35778" r="1022" b="35778"/>
          <a:stretch/>
        </p:blipFill>
        <p:spPr>
          <a:xfrm>
            <a:off x="762120" y="2286000"/>
            <a:ext cx="792468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2564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95480" y="3429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590920" y="2362320"/>
            <a:ext cx="47448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809880" y="22860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35268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095880" y="28954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5334120" y="3429000"/>
            <a:ext cx="4744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1828800" y="32767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5486400" y="2362320"/>
            <a:ext cx="47484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6324480" y="205740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7086600" y="2438280"/>
            <a:ext cx="4748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7696080" y="2133720"/>
            <a:ext cx="47484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 v. Carr 19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many people moved to the c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cts kept the same percentage of votes.  This meant that the city (urban) votes counted ______ than the country (rural)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990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th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341E-006 L -0.125 0.09989 E">
                                      <p:cBhvr>
                                        <p:cTn id="19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46821E-006 L -0.16667 0.07769 E">
                                      <p:cBhvr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341E-006 L 0.09166 1.7341E-006 E">
                                      <p:cBhvr>
                                        <p:cTn id="20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-0.14167 -0.06659 E">
                                      <p:cBhvr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6.53179E-006 L 0.10001 -0.07769 E">
                                      <p:cBhvr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1.09827E-006 L -0.1342 0.06659 E">
                                      <p:cBhvr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0222 L 0.35833 0.02219 E">
                                      <p:cBhvr>
                                        <p:cTn id="2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0.0111 L -0.19254 0.13318 E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4971E-006 C -0.02969 -0.05017 -0.05938 -0.10011 -0.08264 -0.10566 C -0.1059 -0.11121 -0.12709 -0.08208 -0.13976 -0.03375 C -0.15243 0.01457 -0.19236 0.11792 -0.15886 0.18405 C -0.12535 0.25018 0.02847 0.36162 0.06163 0.3637 C 0.09514 0.36578 0.04982 0.23307 0.04114 0.19677 C 0.03229 0.16046 0.01476 0.15445 0.00937 0.1459 E">
                                      <p:cBhvr>
                                        <p:cTn id="22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2.08092E-006 C 0.07847 -0.11885 0.15694 -0.23769 0.21597 -0.19653 C 0.27499 -0.15538 0.29236 0.17688 0.35399 0.2474 C 0.41545 0.31792 0.53003 0.25826 0.58576 0.22613 C 0.64131 0.19399 0.6894 0.08115 0.68732 0.05503 C 0.68524 0.0289 0.59218 0.06728 0.57308 0.06982 E">
                                      <p:cBhvr>
                                        <p:cTn id="2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2428E-007 C 0.00747 0.11283 0.01493 0.22589 0.05243 0.23052 C 0.08993 0.23514 0.19653 0.06127 0.22535 0.02751 E">
                                      <p:cBhvr>
                                        <p:cTn id="23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1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4008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p (online image) availabl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eancourier.org/images/Mapp.jp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5/24/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io cops got a tip that Dollree Mapp was hiding a criminal, so they went to her house and demanded ent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2900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’s lawyer told her to demand a warrant which the cops did not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 v. Oh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came in any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produced a fake warrant which Mapp shoved down her shi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657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find a criminal but found porn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07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294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4197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 arrested for possession of “obscene”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794800">
            <a:off x="752400" y="2830680"/>
            <a:ext cx="8318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civil right was being viol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638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nd 14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4:26:42Z</dcterms:created>
  <dc:creator>Rebecca Johnson</dc:creator>
  <dc:description/>
  <dc:language>en-US</dc:language>
  <cp:lastModifiedBy>Rebecca Johnson</cp:lastModifiedBy>
  <dcterms:modified xsi:type="dcterms:W3CDTF">2010-07-01T18:28:42Z</dcterms:modified>
  <cp:revision>9</cp:revision>
  <dc:subject/>
  <dc:title>The Warren Court</dc:title>
</cp:coreProperties>
</file>